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8260-1309-4493-A14C-9137729135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6000    2/1 in 8     3/179kg     4/1.3 billion tonnes     5/ about a bil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C2CF-5C54-4953-A88E-07F7628484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the questions and predict the answers first, then read the article to check. Key: 1/ to raise awareness of food waste 2/in homes, cutting beans to fit boxes, throwing away fruit with marks, not packing food well, cancelling or reducing orders etc  3/ making food waste information public  4/putting pressure on supermarkets, asking questions, buying odd shaped fruit and veg, cutting food waste in homes, pledging to reduce waste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848E-F1D3-42C5-9CF2-A5FA9131240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5276-2E60-4000-BA6A-06A7B7AF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52BD-7EB5-4A9A-86EC-36227FDF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4A3F-D9DE-4BF2-9959-C80F5A4F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6CD-62F6-4CC5-A1A7-7941219D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F96-8AD8-4798-A6FC-302E7542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469-0E7D-4457-A1F0-CC7C091D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04B2-06BA-4BA4-A8AC-3EDEB8AE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F94-F90B-49FD-8542-80178692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36EF-4DE2-4C49-8555-E309766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C64-1B1C-45B2-8B15-FFD0C250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E3A9-BFC2-42B4-B9DD-AA420344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624-7A90-4942-A6C0-C89D1B4A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A828-76A9-4D1B-A2C8-F6CC2278A8F0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eewiki.newint.org/index.php/Stopping_food_waste,_one_picnic_at_a_time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feeding5k.org/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182520" y="1847880"/>
            <a:ext cx="9163080" cy="3436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INTERMEDIATE 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127320" y="189000"/>
            <a:ext cx="601668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3"/>
          <a:stretch/>
        </p:blipFill>
        <p:spPr>
          <a:xfrm>
            <a:off x="174600" y="260280"/>
            <a:ext cx="28702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1" descr=""/>
          <p:cNvPicPr/>
          <p:nvPr/>
        </p:nvPicPr>
        <p:blipFill>
          <a:blip r:embed="rId1"/>
          <a:stretch/>
        </p:blipFill>
        <p:spPr>
          <a:xfrm>
            <a:off x="457200" y="36360"/>
            <a:ext cx="8229600" cy="1828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/ How many people could you feed with 750kg of vegetables?                                               60/600/600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/ How many people go hungry in the world at the moment?                                    1 in 4 / 1 in 8 / 1 in 1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/ How much food is wasted in Europe per year per person?                                   179kg / 257 kg / 346 k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4/ How much food in total is wasted in the whole world per year?                  1.1/1.3/1.5 billion tonn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5/ How many people in the world can’t get enough food to live?     about a million / a billion / a trill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ook through the article to check – 2 minutes only!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3203640" y="3645000"/>
            <a:ext cx="477036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7200" y="92160"/>
            <a:ext cx="8229600" cy="1481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94920" y="126792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1/ Why did volunteers cook and give away 600 meals in Brussels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2/ Name 4 ways in which food is often wasted.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3/ How are some supermarkets trying to reduce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4/ What can the public do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to help cut food waste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ook Antiqua"/>
              </a:rPr>
              <a:t>Now read again:</a:t>
            </a:r>
            <a:r>
              <a:rPr b="0" lang="en-GB" sz="15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eewiki.newint.org/index.php/Stopping_food_waste,_one_picnic_at_a_tim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5724360" y="4103640"/>
            <a:ext cx="31435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139680" y="-73080"/>
            <a:ext cx="5559480" cy="2865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000" y="242064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Choose one of these: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Find out about this movement and tell others: </a:t>
            </a:r>
            <a:r>
              <a:rPr b="0" lang="en-GB" sz="3200" spc="-1" strike="noStrike" u="sng">
                <a:solidFill>
                  <a:srgbClr val="6b9f25"/>
                </a:solidFill>
                <a:uFillTx/>
                <a:latin typeface="Book Antiqua"/>
                <a:hlinkClick r:id="rId2"/>
              </a:rPr>
              <a:t>http://www.feeding5k.org/</a:t>
            </a: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Make a poster to tell people about food waste and suggest how we can reduce i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ook Antiqua"/>
              </a:rPr>
              <a:t>Write to your local supermarket manager to make suggestions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5432400" y="333360"/>
            <a:ext cx="351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78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57200" y="1863360"/>
            <a:ext cx="8229600" cy="46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1/ Read the original article: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Book Antiqua"/>
              </a:rPr>
              <a:t>http://newint.org/features/web-exclusive/2014/04/04/feeding-the-5000-brussels-food-waste/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nd note down all the new/useful words and phrases you find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2/ Choose another Easier English article about food to read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ategory:Foo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6516720" y="189000"/>
            <a:ext cx="2521080" cy="167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3"/>
          <a:stretch/>
        </p:blipFill>
        <p:spPr>
          <a:xfrm>
            <a:off x="108000" y="85680"/>
            <a:ext cx="2519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9:31:36Z</dcterms:created>
  <dc:creator>Linda Ruas</dc:creator>
  <dc:description/>
  <dc:language>en-US</dc:language>
  <cp:lastModifiedBy>Linda Ruas</cp:lastModifiedBy>
  <dcterms:modified xsi:type="dcterms:W3CDTF">2014-04-14T20:27:52Z</dcterms:modified>
  <cp:revision>11</cp:revision>
  <dc:subject/>
  <dc:title>How to stop food waste</dc:title>
</cp:coreProperties>
</file>